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DE66-8DC7-419B-B5BD-D4665EB5E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15D0-790C-4258-AC4A-41481573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A3A2A-C04D-44A1-B8E0-463E4472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F6E2D-34A1-4BA4-B1B5-D9623D05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DFD0F-9CDE-4F87-BDFC-083911CB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C38F3-92CC-468F-B0D5-161EE7F6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8852-616F-497B-BFD8-4A2BE459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4598A-0E9E-4F1F-94C9-BC7D10F3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4CA89-8464-4950-8CBC-F460CA82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59D1E-C810-4C64-8A49-204BBDF7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A0D7-B3F2-47CC-AC16-39A9BE2FF1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31A2-4D31-4138-9A31-A1A2C651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DF503-9704-4B87-A7FC-4193BA81C0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094CD-DF29-4F46-8982-F251ABA08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34588-AAF9-4EDB-B945-A7239F65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D5837-FD72-4345-ABD6-DF112467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8C002-E2B3-4898-B2B8-3858150B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BF852-6D88-4C40-AB43-1ABC602F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012BD-4B72-48C6-AECE-7850B9FB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82F80-522C-43CD-A7CD-1BD3C680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4963-1D95-4B1A-B7E4-BB843DD3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C92A4-47EB-4C6D-9BBA-5B7F180D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8F874-5E78-4F72-B238-FF3A8913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51C19-3A36-4B87-BB2A-CDBD4BD6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9287B-96F1-42B2-B190-781724E6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1FE06-2ACE-492C-9BF0-2609AB6735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3447-0249-415F-A081-823324D921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18A0-11E9-49EB-A1B5-26842A9C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3C4E-CF46-4B21-BDC5-75818E9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BE01-4D06-4D49-A6AC-2E63A205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1DAD-4E24-46A9-968D-7E244705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2DE8-4C7A-497B-AAA3-96A24D67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2C0F-4A77-489D-92C2-E5C70CEC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A894-2DD8-4EFD-A43B-F08AD262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7F4D-C01C-4323-ACA4-C94F788B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69CD-F0B9-4A5A-938E-BD1D154B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8BCC-B75A-4623-A473-55EAFFAA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D848-3DEB-47BC-AB72-050C02A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ABEF-EDA2-4DF3-80B9-8F6AF08D4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B66CE-BBAF-4F70-A7E7-4E0525DCD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487B4-98F2-4334-B0CB-DDC2ACA4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43A09-3AED-47AB-844D-127C0C8C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E131-FBD4-494C-88B7-43A8B6A0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26DBB-58C0-48EF-9ACB-C2FAADCB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D25AF-DD39-4F34-89B3-6F2EF9D0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275F5-04B3-4D42-BDEA-399ABF31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31FE4-CCDB-4A88-9EE3-FEFE6B63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4DAAA-D007-489B-A959-E08ACCF7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37151-6DE2-465E-89A2-755D0DE6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3831B-6870-480B-B263-27405D38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DD533-1D6D-4705-91A2-22E4863B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622FA-F77D-476F-9E90-3C1AFC22F6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2AB27-1491-4FB8-92E5-C79C5EFAD6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348B-4527-4AF7-A8AA-C4213BEE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29A3E-8555-4D42-8064-8D42E6D2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DAE3B2-511D-4C16-98EE-00F7B215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68BF8F-F28D-4A14-A3A0-936A1577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91683-A053-47D2-A6D8-C3E01D67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2B09D1-DD54-44EE-9FCC-9CC93AAE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6AFB1-8991-4D39-9524-D2FDAC8F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F87E2-E266-4D36-80C0-E55AFCE1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CE71EA-9EEB-4CD0-85EB-603C85D2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71794-3ECB-4319-89ED-490CBFF3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75006F-9628-40CC-AF61-4BB03AD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E5FA-A905-4985-BCF9-16AD3414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703D9-B201-41D9-8DE0-D7EAFF6CE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084F7-C031-468D-B201-3D4A3C9381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A4968-A839-43D0-B3F7-4E85AB62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FAD6-E842-427B-9420-2346A273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3F7E-1BE4-432C-8A7F-D60118DE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408CD-E4FA-41DC-BAF3-A72DFDD4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DFE28-1D8C-4301-9B29-ACB965A1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6E897-A8F3-4F88-81F1-1BD6DC01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E2DD8-F8C8-4A3D-B74E-6EEC0788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3C2B-3387-425D-8491-E6EADD72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A37B-ACC6-4DC9-94E8-40C18E93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0E77-3E69-45E7-8C68-D04BC964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6DBC-15C0-4F50-BB8A-41221A90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C918-40E1-4D28-A7DB-C22DA313D7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2A45F-FB95-4F54-891A-E7A71DB6F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FE86E-39B6-4068-8CB3-24349579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F7ED4D-98EA-466F-AA4A-B1197F42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97C6D-4188-4783-A4A0-9A956D58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103FB-A5A9-4B33-88A5-08AB6D0A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E6FD3-319E-43C8-B4A9-B563FDFF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29DF0-08A4-4A56-A68C-171000F9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F733-2CC8-416E-A34E-14FFE72B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51013-22AA-42E0-AFF3-55B3E440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31CD7-5C66-4EA0-8804-A004040B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3A516-F1C9-4A28-81E9-21C8D802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1F92C-0B43-494E-847B-253E953F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E9D6A-4F60-484A-9EE6-AC2359D17A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D65B1B-9524-4245-BCD5-1FA02CD9E9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A4813E-60F7-440C-834E-4A75CC83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6A564C-1FD8-4D5D-A080-32FFE731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EFCF1B-4F46-44D3-8ECB-B74AF623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635645-1781-446F-9189-213C36D3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51B6-B146-40E7-A792-25ABC655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9528AA-70A2-4C2F-8CD2-ED2E93D6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B6ED0C-184D-4992-A087-E242B2B6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CD7928-79DF-43D2-BD20-56EFE1F4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863FC8-239B-40E9-8A18-6C960126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EA1E65-61B6-4C58-8A5E-83E44331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81AF72-CF58-409F-8E76-FE245312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43C933-BEF5-472C-8131-F80ECA2201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98A06-AE41-4AF8-8B65-35F5615225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834A6-20D6-4314-96D7-510D2C4B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12B4E-5424-4657-A289-7954A434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0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240" y="6477120"/>
            <a:ext cx="75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7A634-3EA5-4CE8-B034-6AF0B778B482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600" y="6473520"/>
            <a:ext cx="752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B36A119-79D0-4CC6-B563-250FDFF481DD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600" y="6473520"/>
            <a:ext cx="752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BAE138D-F043-4F1A-9242-37EF5294BF2A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35531D7-8A7A-4B94-8D5D-C1FDCD7B47A7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2DE4E93-7935-4A0A-A550-16B62FDFAABC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B79BBAD-3F40-4340-A34D-3CB503F4DD39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1E1DC91-38B8-4B92-B6FB-A3CFCB3CDE5F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AD55305-991E-4BCD-9212-D5779C560B9F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21A9C90-3AD5-40EA-87CA-4228C39C1490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720720" y="4257720"/>
            <a:ext cx="8474040" cy="1322280"/>
            <a:chOff x="720720" y="4257720"/>
            <a:chExt cx="8474040" cy="1322280"/>
          </a:xfrm>
        </p:grpSpPr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720720" y="4257720"/>
              <a:ext cx="84740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20720" y="4257720"/>
              <a:ext cx="84740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495520" cy="1871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071880" y="5494320"/>
            <a:ext cx="289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c1900"/>
                </a:solidFill>
                <a:latin typeface="Franklin Gothic Book"/>
              </a:rPr>
              <a:t>Artur Klimaszewski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371520" y="3602160"/>
            <a:ext cx="8570880" cy="1487520"/>
            <a:chOff x="371520" y="3602160"/>
            <a:chExt cx="8570880" cy="1487520"/>
          </a:xfrm>
        </p:grpSpPr>
        <p:pic>
          <p:nvPicPr>
            <p:cNvPr id="437" name="" descr=""/>
            <p:cNvPicPr/>
            <p:nvPr/>
          </p:nvPicPr>
          <p:blipFill>
            <a:blip r:embed="rId2"/>
            <a:stretch/>
          </p:blipFill>
          <p:spPr>
            <a:xfrm>
              <a:off x="371520" y="3602160"/>
              <a:ext cx="85708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371520" y="3602160"/>
              <a:ext cx="8570880" cy="14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68360" y="5013360"/>
            <a:ext cx="837864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Trudności w rozróżnieniu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285840" y="938160"/>
            <a:ext cx="8864640" cy="1440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657360" y="2276640"/>
            <a:ext cx="8378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Cen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Wartość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212760" y="450720"/>
            <a:ext cx="8785080" cy="1152720"/>
            <a:chOff x="212760" y="450720"/>
            <a:chExt cx="8785080" cy="1152720"/>
          </a:xfrm>
        </p:grpSpPr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212760" y="450720"/>
              <a:ext cx="87850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12760" y="450720"/>
              <a:ext cx="87850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04920" y="1600200"/>
            <a:ext cx="41907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Herbatnik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Mrożony broku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Groszek zielony z puszk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Sardynki z puszk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Ryba morska wędzon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Zupa z proszku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Makaron z mąki razowej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1600200"/>
            <a:ext cx="4343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Kefir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Biały ser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Kiszona kapust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Kiełbasa krakowsk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Ryba w galareci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Ekologiczne mleko pasteryzowan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341280" y="255600"/>
            <a:ext cx="8699400" cy="1152360"/>
            <a:chOff x="341280" y="255600"/>
            <a:chExt cx="8699400" cy="115236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341280" y="255600"/>
              <a:ext cx="86994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341280" y="255600"/>
              <a:ext cx="86994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04920" y="1554120"/>
            <a:ext cx="86868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ć naturaln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↓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ć minimalnie przetworzon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↓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ć przetworzon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(poddana wysokiej temperaturze, dodatki chemiczne, dodatek sacharozy lub fruktuzy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↓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ć nienaturalna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(olestra, słodziki, wzmacniacze smakowe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244440" y="255600"/>
            <a:ext cx="8697960" cy="1152360"/>
            <a:chOff x="244440" y="255600"/>
            <a:chExt cx="8697960" cy="1152360"/>
          </a:xfrm>
        </p:grpSpPr>
        <p:pic>
          <p:nvPicPr>
            <p:cNvPr id="452" name="" descr=""/>
            <p:cNvPicPr/>
            <p:nvPr/>
          </p:nvPicPr>
          <p:blipFill>
            <a:blip r:embed="rId2"/>
            <a:stretch/>
          </p:blipFill>
          <p:spPr>
            <a:xfrm>
              <a:off x="244440" y="255600"/>
              <a:ext cx="86979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244440" y="255600"/>
              <a:ext cx="86979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4e3b30"/>
                </a:solidFill>
                <a:latin typeface="Franklin Gothic Book"/>
              </a:rPr>
              <a:t>Dieta Inuitów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4e3b30"/>
                </a:solidFill>
                <a:latin typeface="Franklin Gothic Book"/>
              </a:rPr>
              <a:t>Dieta India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4e3b30"/>
                </a:solidFill>
                <a:latin typeface="Franklin Gothic Book"/>
              </a:rPr>
              <a:t>Dieta Masajów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4e3b30"/>
                </a:solidFill>
                <a:latin typeface="Franklin Gothic Book"/>
              </a:rPr>
              <a:t>Wszystkie zapewniają małą ilość chorób cywilizacyjnych, przejście na dietę naturalną często wiąże się z szybką poprawą stanu zdrowia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700" spc="-1" strike="noStrike">
                <a:solidFill>
                  <a:srgbClr val="4e3b30"/>
                </a:solidFill>
                <a:latin typeface="Franklin Gothic Book"/>
              </a:rPr>
              <a:t>Paradoks</a:t>
            </a:r>
            <a:r>
              <a:rPr b="0" lang="pl-PL" sz="2700" spc="-1" strike="noStrike">
                <a:solidFill>
                  <a:srgbClr val="4e3b30"/>
                </a:solidFill>
                <a:latin typeface="Franklin Gothic Book"/>
              </a:rPr>
              <a:t>: średnia długość życia na diecie zachodniej jest dłuższa, ale wynika z usunięcia wielu innych czynników ryzyka: mniej konfliktów zbrojnych, mniejsza umieralność niemowląt, przestronniejsze mieszkania, szczepienia, pomoc medyczna, łagodniejszy klimat.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244440" y="255600"/>
            <a:ext cx="8697960" cy="1603440"/>
            <a:chOff x="244440" y="255600"/>
            <a:chExt cx="8697960" cy="1603440"/>
          </a:xfrm>
        </p:grpSpPr>
        <p:pic>
          <p:nvPicPr>
            <p:cNvPr id="456" name="" descr=""/>
            <p:cNvPicPr/>
            <p:nvPr/>
          </p:nvPicPr>
          <p:blipFill>
            <a:blip r:embed="rId2"/>
            <a:stretch/>
          </p:blipFill>
          <p:spPr>
            <a:xfrm>
              <a:off x="244440" y="255600"/>
              <a:ext cx="86979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44440" y="255600"/>
              <a:ext cx="869796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304920" y="2421000"/>
            <a:ext cx="868680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pożywaj tylko prawdziwą żywność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Nie jedz do syt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Koncentruj się na warzywach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244440" y="-6480"/>
            <a:ext cx="8697960" cy="1305000"/>
            <a:chOff x="244440" y="-6480"/>
            <a:chExt cx="8697960" cy="1305000"/>
          </a:xfrm>
        </p:grpSpPr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244440" y="-6480"/>
              <a:ext cx="8697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44440" y="-6480"/>
              <a:ext cx="869796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304920" y="1554120"/>
            <a:ext cx="8686800" cy="74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4e3b30"/>
                </a:solidFill>
                <a:latin typeface="Franklin Gothic Book"/>
              </a:rPr>
              <a:t>Wybrane 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4e3b30"/>
                </a:solidFill>
                <a:latin typeface="Franklin Gothic Book"/>
              </a:rPr>
              <a:t>przetwory z mleka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owoc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4e3b30"/>
                </a:solidFill>
                <a:latin typeface="Franklin Gothic Book"/>
              </a:rPr>
              <a:t>mięso i ryby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4e3b30"/>
                </a:solidFill>
                <a:latin typeface="Franklin Gothic Book"/>
              </a:rPr>
              <a:t>pełne ziarna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600" spc="-1" strike="noStrike">
                <a:solidFill>
                  <a:srgbClr val="4e3b30"/>
                </a:solidFill>
                <a:latin typeface="Franklin Gothic Book"/>
              </a:rPr>
              <a:t>w a r z y w a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133200" y="450720"/>
            <a:ext cx="9017280" cy="5450040"/>
            <a:chOff x="133200" y="450720"/>
            <a:chExt cx="9017280" cy="5450040"/>
          </a:xfrm>
        </p:grpSpPr>
        <p:pic>
          <p:nvPicPr>
            <p:cNvPr id="464" name="" descr=""/>
            <p:cNvPicPr/>
            <p:nvPr/>
          </p:nvPicPr>
          <p:blipFill>
            <a:blip r:embed="rId2"/>
            <a:stretch/>
          </p:blipFill>
          <p:spPr>
            <a:xfrm>
              <a:off x="133200" y="450720"/>
              <a:ext cx="9017280" cy="545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33200" y="450720"/>
              <a:ext cx="9017280" cy="54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539640" y="33336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żywności, która zawiera jakikolwiek cukier wymieniony na początku spisu składników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"/>
          <p:cNvSpPr/>
          <p:nvPr/>
        </p:nvSpPr>
        <p:spPr>
          <a:xfrm>
            <a:off x="450720" y="222876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Sceptycznie odnoś się do żywności, która na opakowaniu ogłasza się, że jest zdrowa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"/>
          <p:cNvSpPr/>
          <p:nvPr/>
        </p:nvSpPr>
        <p:spPr>
          <a:xfrm>
            <a:off x="503280" y="419904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żywności niskotłuszczowej, ponieważ producenci zmuszeni są dla zachowania smaku dodawać więcej cukru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84360" y="3240000"/>
            <a:ext cx="8135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Robiąc zakupy skoncentruj się na obwodzie sklepu, gdzie prawie zawsze znajdują się produkty naturalne lub najmniej przetworzon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"/>
          <p:cNvSpPr/>
          <p:nvPr/>
        </p:nvSpPr>
        <p:spPr>
          <a:xfrm>
            <a:off x="684360" y="539640"/>
            <a:ext cx="8135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żywności  będącej imitacją innej żywności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"/>
          <p:cNvSpPr/>
          <p:nvPr/>
        </p:nvSpPr>
        <p:spPr>
          <a:xfrm>
            <a:off x="684360" y="5219640"/>
            <a:ext cx="8135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żywności , która nie gnije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lub nie psuje się z czasem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"/>
          <p:cNvSpPr/>
          <p:nvPr/>
        </p:nvSpPr>
        <p:spPr>
          <a:xfrm>
            <a:off x="682560" y="1619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Unikaj soków z warzyw i owoców; zawierają skoncentrowane cukry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a nie zawierają błonnika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539640" y="33336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Kupuj żywność na stoiskach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i bazarach zaopatrywanych bezpośrednio przez lokalnych rolników i ogrodników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"/>
          <p:cNvSpPr/>
          <p:nvPr/>
        </p:nvSpPr>
        <p:spPr>
          <a:xfrm>
            <a:off x="539640" y="251928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żeli możesz wybieraj wyroby domowe, a nie te wyprodukowane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w fabrykach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4437000"/>
            <a:ext cx="8460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Uwzględniaj warzywa liściaste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w codziennej diecie (szpinak, sałata, kapusta, etc.)  przynajmniej 1 szklanka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49320" y="255600"/>
            <a:ext cx="8893080" cy="1152360"/>
            <a:chOff x="49320" y="255600"/>
            <a:chExt cx="8893080" cy="1152360"/>
          </a:xfrm>
        </p:grpSpPr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49320" y="255600"/>
              <a:ext cx="8893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320" y="255600"/>
              <a:ext cx="889308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04920" y="1557360"/>
            <a:ext cx="8686800" cy="62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Na co trzeba uważać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Niezgodność ekspertów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Minimalny nadzór nad produkcją żywnośc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Dietetyczni guru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łowa robiące wrażenie</a:t>
            </a:r>
            <a:r>
              <a:rPr b="0" lang="en-CA" sz="3200" spc="-1" strike="noStrike">
                <a:solidFill>
                  <a:srgbClr val="4e3b30"/>
                </a:solidFill>
                <a:latin typeface="Franklin Gothic Book"/>
              </a:rPr>
              <a:t> – marketing nienaturalnej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c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Postrzeganie żywności</a:t>
            </a:r>
            <a:r>
              <a:rPr b="0" lang="en-C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przez pryzmat zawartości</a:t>
            </a:r>
            <a:r>
              <a:rPr b="0" lang="en-C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kładników odżywczych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Reguła 50 l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39640" y="360360"/>
            <a:ext cx="813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żeli chodzi o białko zwierzęce, to zwróć uwagę zwłaszcza na dzikie ryby oraz drób, unikaj wieprzowiny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i wołowiny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"/>
          <p:cNvSpPr/>
          <p:nvPr/>
        </p:nvSpPr>
        <p:spPr>
          <a:xfrm>
            <a:off x="539640" y="256860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Wybierając warzywa i owoce szukaj intensywnych kolorów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"/>
          <p:cNvSpPr/>
          <p:nvPr/>
        </p:nvSpPr>
        <p:spPr>
          <a:xfrm>
            <a:off x="539640" y="4656240"/>
            <a:ext cx="813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gdy nie marnuj wywaru z jarzyn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539640" y="33336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żeli jesz mięso i ryby to szukaj takich, które były zdrowo karmion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"/>
          <p:cNvSpPr/>
          <p:nvPr/>
        </p:nvSpPr>
        <p:spPr>
          <a:xfrm>
            <a:off x="539640" y="216072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Spożywaj warzywa i owoce, które rosły na zdrowej, niezanieczyszczonej glebie i w czystym powietrzu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468000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zwykle ceń dzikie ryby, dziczyznę oraz produkty leśne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39640" y="82872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Szanuj i często używaj żywności fermentowanej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2160720"/>
            <a:ext cx="813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dosładzaj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"/>
          <p:cNvSpPr/>
          <p:nvPr/>
        </p:nvSpPr>
        <p:spPr>
          <a:xfrm>
            <a:off x="539640" y="465624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Zrezygnuj z białych mąk, również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z białej mąki żytniej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"/>
          <p:cNvSpPr/>
          <p:nvPr/>
        </p:nvSpPr>
        <p:spPr>
          <a:xfrm>
            <a:off x="539640" y="306864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Doceń warzywa strączkowe będące bogatym źródłem białka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39640" y="33336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żeli bardzo kusi cię Junk Food to go jedz pod warunkiem wszakże, że sam  przyrządzisz, a nie kupisz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"/>
          <p:cNvSpPr/>
          <p:nvPr/>
        </p:nvSpPr>
        <p:spPr>
          <a:xfrm>
            <a:off x="539640" y="4140360"/>
            <a:ext cx="813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nigdy do syta i pilnuj, aby zjeść śniadanie w ciągu pierwszych dwóch godzin dnia. Śniadanie może być jednym z bardziej kalorycznych posiłków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97964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Eksperymentuj z wybranymi przepisami kuchni francuskiej, włoskiej, greckiej, dalekowschodniej i japońskiej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539640" y="33336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dz głównie dla zaspokojenia głodu, a nie np. dla przyjemności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"/>
          <p:cNvSpPr/>
          <p:nvPr/>
        </p:nvSpPr>
        <p:spPr>
          <a:xfrm>
            <a:off x="503280" y="1800360"/>
            <a:ext cx="8136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Opieraj się na poprzednio pokazanej  na przezroczu piramidzie pokarmowej, ale przepisy układaj wg pokarmów, które lubisz; nie jedz nic na siłę, tylko dlatego, że jest zdrow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"/>
          <p:cNvSpPr/>
          <p:nvPr/>
        </p:nvSpPr>
        <p:spPr>
          <a:xfrm>
            <a:off x="539640" y="474336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Przeżuwaj każdy kęs (np 20 razy)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i przestań jeść kiedy zaspokoisz głód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39640" y="333360"/>
            <a:ext cx="8136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wieczorem na 2 – 3 godziny przed snem; jeżeli musisz np. dlatego, że wymaga tego lek lub czujesz nadmierny głód, to niech to będzie coś ubogiego w węglowodany, np. orzech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"/>
          <p:cNvSpPr/>
          <p:nvPr/>
        </p:nvSpPr>
        <p:spPr>
          <a:xfrm>
            <a:off x="611280" y="328464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Zwracaj uwagę na to co jesz, nie jedz oglądając TV, prowadząc samochód etc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"/>
          <p:cNvSpPr/>
          <p:nvPr/>
        </p:nvSpPr>
        <p:spPr>
          <a:xfrm>
            <a:off x="692280" y="4943520"/>
            <a:ext cx="8135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O ile to możliwe to jedz posiłki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z rodziną lub przyjaciółmi (nawet jeżeli twoja dieta jest inna)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539640" y="33336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żeli musisz jeść słodycze i łakocie, to ogranicz ich spożywanie do świąt lub niedzi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"/>
          <p:cNvSpPr/>
          <p:nvPr/>
        </p:nvSpPr>
        <p:spPr>
          <a:xfrm>
            <a:off x="539640" y="1989000"/>
            <a:ext cx="813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czuj się w obowiązku zawsze opróżnić talerz do czysta; w ten sposób i tak nie uratujesz żadnego głodującego dziecka z Afryki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"/>
          <p:cNvSpPr/>
          <p:nvPr/>
        </p:nvSpPr>
        <p:spPr>
          <a:xfrm>
            <a:off x="539640" y="4140360"/>
            <a:ext cx="8101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Hoduj część swojej żywności, choćby w doniczce na oknie, jeśli nie masz ogródka; przynajmniej część swojego jedzenia sam przyrządzaj, nawet jeżeli łatwiej kupić gotow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2560" y="3119400"/>
            <a:ext cx="83170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"/>
          <p:cNvSpPr/>
          <p:nvPr/>
        </p:nvSpPr>
        <p:spPr>
          <a:xfrm>
            <a:off x="539640" y="720720"/>
            <a:ext cx="8136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Indeks glikemiczny żywności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st skutecznym narzędziem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w zapobieganiu grzybicom 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Prawdziwa, 85-95% czekolada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ależy do zdrowej żywności i może być konsumowana w niewielkich ilościach codzienni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365040" y="255600"/>
            <a:ext cx="8894880" cy="1152360"/>
            <a:chOff x="365040" y="255600"/>
            <a:chExt cx="8894880" cy="1152360"/>
          </a:xfrm>
        </p:grpSpPr>
        <p:pic>
          <p:nvPicPr>
            <p:cNvPr id="501" name="" descr=""/>
            <p:cNvPicPr/>
            <p:nvPr/>
          </p:nvPicPr>
          <p:blipFill>
            <a:blip r:embed="rId2"/>
            <a:stretch/>
          </p:blipFill>
          <p:spPr>
            <a:xfrm>
              <a:off x="365040" y="255600"/>
              <a:ext cx="88948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365040" y="255600"/>
              <a:ext cx="889488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4e3b30"/>
                </a:solidFill>
                <a:latin typeface="Franklin Gothic Book"/>
              </a:rPr>
              <a:t>Dan Buettner: </a:t>
            </a:r>
            <a:r>
              <a:rPr b="1" lang="en-CA" sz="3200" spc="-1" strike="noStrike">
                <a:solidFill>
                  <a:srgbClr val="4e3b30"/>
                </a:solidFill>
                <a:latin typeface="Franklin Gothic Book"/>
              </a:rPr>
              <a:t>The Blue Zon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4e3b30"/>
                </a:solidFill>
                <a:latin typeface="Franklin Gothic Book"/>
              </a:rPr>
              <a:t>Michael Pollan: Food Rul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4e3b30"/>
                </a:solidFill>
                <a:latin typeface="Franklin Gothic Book"/>
              </a:rPr>
              <a:t>Michael F. Roizen, Mehmet C. Oz</a:t>
            </a:r>
            <a:r>
              <a:rPr b="1" lang="pl-PL" sz="3200" spc="-1" strike="noStrike">
                <a:solidFill>
                  <a:srgbClr val="4e3b30"/>
                </a:solidFill>
                <a:latin typeface="Franklin Gothic Book"/>
              </a:rPr>
              <a:t> :  You on a diet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450720" y="255600"/>
            <a:ext cx="8699760" cy="1152360"/>
            <a:chOff x="450720" y="255600"/>
            <a:chExt cx="8699760" cy="115236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450720" y="255600"/>
              <a:ext cx="86997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450720" y="255600"/>
              <a:ext cx="86997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tan na dzień dzisiejsz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Dieta „zachodnia” (skąd się wzięła?) i jej wad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Ewentualny związek diety z boreliozą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Jaki z tego  wniosek i możliwość interwencj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298440" y="365040"/>
            <a:ext cx="8699400" cy="2238480"/>
            <a:chOff x="298440" y="365040"/>
            <a:chExt cx="8699400" cy="2238480"/>
          </a:xfrm>
        </p:grpSpPr>
        <p:pic>
          <p:nvPicPr>
            <p:cNvPr id="413" name="" descr=""/>
            <p:cNvPicPr/>
            <p:nvPr/>
          </p:nvPicPr>
          <p:blipFill>
            <a:blip r:embed="rId2"/>
            <a:stretch/>
          </p:blipFill>
          <p:spPr>
            <a:xfrm>
              <a:off x="298440" y="365040"/>
              <a:ext cx="869940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98440" y="365040"/>
              <a:ext cx="8699400" cy="22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1908000" y="2852640"/>
            <a:ext cx="708372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Źródło obserwacj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Próba wyjaśnieni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450720" y="255600"/>
            <a:ext cx="8699760" cy="1152360"/>
            <a:chOff x="450720" y="255600"/>
            <a:chExt cx="8699760" cy="1152360"/>
          </a:xfrm>
        </p:grpSpPr>
        <p:pic>
          <p:nvPicPr>
            <p:cNvPr id="417" name="" descr=""/>
            <p:cNvPicPr/>
            <p:nvPr/>
          </p:nvPicPr>
          <p:blipFill>
            <a:blip r:embed="rId2"/>
            <a:stretch/>
          </p:blipFill>
          <p:spPr>
            <a:xfrm>
              <a:off x="450720" y="255600"/>
              <a:ext cx="86997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50720" y="255600"/>
              <a:ext cx="86997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Trudność w ocenie co jest ważniejsz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-  życie w miastach (pyły, stres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- bezruch (choroba, TV, komputer, samochód etc.)   - wpływ na układ krążenia, oddychania, wydalani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Zanieczyszczenia chemiczne, używki, leki, narkotyk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Brak poczucia wspólnoty plemiennej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298440" y="450720"/>
            <a:ext cx="8699400" cy="1152720"/>
            <a:chOff x="298440" y="450720"/>
            <a:chExt cx="8699400" cy="1152720"/>
          </a:xfrm>
        </p:grpSpPr>
        <p:pic>
          <p:nvPicPr>
            <p:cNvPr id="421" name="" descr=""/>
            <p:cNvPicPr/>
            <p:nvPr/>
          </p:nvPicPr>
          <p:blipFill>
            <a:blip r:embed="rId2"/>
            <a:stretch/>
          </p:blipFill>
          <p:spPr>
            <a:xfrm>
              <a:off x="298440" y="450720"/>
              <a:ext cx="86994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98440" y="450720"/>
              <a:ext cx="869940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Czasy przedrolnicz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Czasy pierwszych gospodarstw z uprawą roślin i hodowlą zwierzą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Ulepszanie żywności poprzez dobó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Chemizacja  (wzrost plonu, ochrona przed szkodnikami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Inżynieria genetyczn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Wynalazki żywnościow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Prowadzona w ukryciu przed opinią publiczną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Wprowadzana stopniowo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Brak zasad etyki w produkcji: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- fermy hodowlan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- nowatorskie źródła żywności dla zwierzą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- nowatorskie źródła nawozów sztucznych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ć potencjalnie niedoborowa opierająca się o zaledwie kilka wysokoplennych rośli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04920" y="981000"/>
            <a:ext cx="868680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Środki wydłużające przydatność do spożyci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A. Manipulacje genetyczn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B. Chemi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C. Napromieniowani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D. Azo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E. Mrożeni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Środki poprawiające smak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A. Słodziki, fruktoz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B.  Glutaminia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Środki zastępujące oryginalne składnik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Poprawa wizualna żywnośc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A. Użycie nitratów do produktów mięsny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B. Użycie atrakcyjnych opakowań apelujących do emocji oraz ukrywających wady produkt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C. Barwienie łososi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9320" y="182520"/>
            <a:ext cx="8899560" cy="1152720"/>
            <a:chOff x="49320" y="182520"/>
            <a:chExt cx="8899560" cy="1152720"/>
          </a:xfrm>
        </p:grpSpPr>
        <p:pic>
          <p:nvPicPr>
            <p:cNvPr id="430" name="" descr=""/>
            <p:cNvPicPr/>
            <p:nvPr/>
          </p:nvPicPr>
          <p:blipFill>
            <a:blip r:embed="rId2"/>
            <a:stretch/>
          </p:blipFill>
          <p:spPr>
            <a:xfrm>
              <a:off x="49320" y="182520"/>
              <a:ext cx="88995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9320" y="182520"/>
              <a:ext cx="88995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298440" y="182520"/>
            <a:ext cx="8699400" cy="1152720"/>
            <a:chOff x="298440" y="182520"/>
            <a:chExt cx="8699400" cy="1152720"/>
          </a:xfrm>
        </p:grpSpPr>
        <p:pic>
          <p:nvPicPr>
            <p:cNvPr id="433" name="" descr=""/>
            <p:cNvPicPr/>
            <p:nvPr/>
          </p:nvPicPr>
          <p:blipFill>
            <a:blip r:embed="rId2"/>
            <a:stretch/>
          </p:blipFill>
          <p:spPr>
            <a:xfrm>
              <a:off x="298440" y="182520"/>
              <a:ext cx="86994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98440" y="182520"/>
              <a:ext cx="869940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04920" y="155412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kala spożycia środków ochrony rośli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ubstancje czynne roślin a nawoz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pl-PL" sz="2000" spc="-1" strike="noStrike">
                <a:solidFill>
                  <a:srgbClr val="4e3b30"/>
                </a:solidFill>
                <a:latin typeface="Franklin Gothic Book"/>
              </a:rPr>
              <a:t>efekt „sterydowy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ubstancje czynne, a optymalność warunków wzrostu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e3b30"/>
                </a:solidFill>
                <a:latin typeface="Franklin Gothic Book"/>
              </a:rPr>
              <a:t>Przykłady substancji: Glutation (awokado), idolecarbinol  i sulforafan (Brokuł), karoten (marchew), kapsaicyna (ostra papryczka), luteina i zeaksantyna (kapustowate), lignanty (len) , bioflawonoidy (kolorowe owoce jagodowe), lentinan (grzyby jadalne takie jak  Shiitake, maitake</a:t>
            </a:r>
            <a:r>
              <a:rPr b="0" i="1" lang="pl-PL" sz="20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0" lang="pl-PL" sz="2000" spc="-1" strike="noStrike">
                <a:solidFill>
                  <a:srgbClr val="4e3b30"/>
                </a:solidFill>
                <a:latin typeface="Franklin Gothic Book"/>
              </a:rPr>
              <a:t> reishi, Agaricus blazei Murill), likopen (pomidory), resveratrol (pestki winogrona, wi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8:03:43Z</dcterms:created>
  <dc:creator>Adam</dc:creator>
  <dc:description/>
  <dc:language>en-US</dc:language>
  <cp:lastModifiedBy>Adam</cp:lastModifiedBy>
  <dcterms:modified xsi:type="dcterms:W3CDTF">2010-09-01T10:33:38Z</dcterms:modified>
  <cp:revision>7</cp:revision>
  <dc:subject/>
  <dc:title>Uwagi na temat  żywienia</dc:title>
</cp:coreProperties>
</file>